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47FC9-1E54-4CFD-A04E-276AD84A3E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6DA-DA25-4899-BF95-8145B9FD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03C-2C7D-4D5F-A19E-8FA15B48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19A-14B2-42F9-8BFF-EA9E0FAA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408-7C00-4C43-BE28-5681595C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12A-5E73-43C9-9307-C52DC5D8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8B9-3E6B-4BE1-9DC2-B6117844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670-D99D-48CE-A1A0-217B52A9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38E-3E09-4DBE-BFE1-AC3376B4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3EE-2A2B-47F7-A427-CC7BF2BA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0D9-525E-4D21-8463-17BDB99E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5EF-3A69-42FE-B936-8FCC521B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FD3-7FE8-454D-A4D5-B8177F2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7CBB1-2958-4CAD-8DCD-18053456CA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9520" y="163440"/>
            <a:ext cx="9107280" cy="721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21:00:29Z</dcterms:created>
  <dc:creator/>
  <dc:description/>
  <dc:language>en-US</dc:language>
  <cp:lastModifiedBy/>
  <cp:revision>1</cp:revision>
  <dc:subject/>
  <dc:title/>
</cp:coreProperties>
</file>